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EB5-CA78-4EA7-A98E-4765E4AC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F8F9-6C7E-4D97-BAC1-6B98216E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0713-BDB2-46E0-BC66-A8F6E0B88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D716-E3EE-48D5-95A6-C4ED899D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3806-537F-4C1C-B38B-4389B977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75D6-634C-43AE-B778-6E695B2A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008-600C-4F0C-A2F0-A3FA2AA4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F53-5522-40E5-A6C4-9E4DA311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1FD8-29B9-4EE8-8C06-FE84DCFC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9BB4-6051-4457-A6B8-36358948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9F1B-4487-4D01-A02F-E3B99FA6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B89E-0EB1-4DB5-A4F9-D26C8ECB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8D93-1AA3-4E60-858F-5D206CEFC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iqHKFMPhHw" TargetMode="External"/><Relationship Id="rId2" Type="http://schemas.openxmlformats.org/officeDocument/2006/relationships/hyperlink" Target="http://www.youtube.com/watch?v=tiqHKFMPhHw" TargetMode="External"/><Relationship Id="rId3" Type="http://schemas.openxmlformats.org/officeDocument/2006/relationships/hyperlink" Target="http://www.youtube.com/watch?v=tiqHKFMPhHw" TargetMode="External"/><Relationship Id="rId4" Type="http://schemas.openxmlformats.org/officeDocument/2006/relationships/hyperlink" Target="http://www.youtube.com/watch?v=tiqHKFMPhHw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beahfound.org/Beah_Foundation/Home.html" TargetMode="External"/><Relationship Id="rId3" Type="http://schemas.openxmlformats.org/officeDocument/2006/relationships/hyperlink" Target="http://www.beahfound.org/Beah_Foundation/Home.html" TargetMode="External"/><Relationship Id="rId4" Type="http://schemas.openxmlformats.org/officeDocument/2006/relationships/hyperlink" Target="http://www.beahfound.org/Beah_Foundation/Home.html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Long Way Gone: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moirs of a Boy Sold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121200" y="1981080"/>
            <a:ext cx="3051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hmael Be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Nov 23, 1980 in Sierra Le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War, 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Soldier at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cued, 199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C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ted from Oberlin College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913280" y="1981080"/>
            <a:ext cx="3279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erra Le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917720" y="1981080"/>
            <a:ext cx="530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War in Sierra Le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The Forgotten War: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	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The Sierra Leone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hmael Beah Fou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443400" cy="41148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203640" y="571500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ahfound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22:01:46Z</dcterms:created>
  <dc:creator>Michael Farrell</dc:creator>
  <dc:description/>
  <dc:language>en-US</dc:language>
  <cp:lastModifiedBy>Michael Farrell</cp:lastModifiedBy>
  <dcterms:modified xsi:type="dcterms:W3CDTF">2011-01-09T01:18:14Z</dcterms:modified>
  <cp:revision>3</cp:revision>
  <dc:subject/>
  <dc:title>A Long Way Gone:  Memoirs of a Boy Soldier</dc:title>
</cp:coreProperties>
</file>